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5.png" ContentType="image/png"/>
  <Override PartName="/ppt/media/image2.pct" ContentType="image/x-pict"/>
  <Override PartName="/ppt/media/image5.png" ContentType="image/png"/>
  <Override PartName="/ppt/media/image17.png" ContentType="image/png"/>
  <Override PartName="/ppt/media/image14.png" ContentType="image/png"/>
  <Override PartName="/ppt/media/image72.jpeg" ContentType="image/jpeg"/>
  <Override PartName="/ppt/media/image20.png" ContentType="image/png"/>
  <Override PartName="/ppt/media/image57.png" ContentType="image/png"/>
  <Override PartName="/ppt/media/image21.png" ContentType="image/png"/>
  <Override PartName="/ppt/media/image58.png" ContentType="image/png"/>
  <Override PartName="/ppt/media/image22.png" ContentType="image/png"/>
  <Override PartName="/ppt/media/image59.png" ContentType="image/png"/>
  <Override PartName="/ppt/media/image73.pct" ContentType="image/x-pict"/>
  <Override PartName="/ppt/media/image64.png" ContentType="image/png"/>
  <Override PartName="/ppt/media/image71.pct" ContentType="image/x-pict"/>
  <Override PartName="/ppt/media/image25.png" ContentType="image/png"/>
  <Override PartName="/ppt/media/image62.png" ContentType="image/png"/>
  <Override PartName="/ppt/media/image70.pct" ContentType="image/x-pict"/>
  <Override PartName="/ppt/media/image24.png" ContentType="image/png"/>
  <Override PartName="/ppt/media/image61.png" ContentType="image/png"/>
  <Override PartName="/ppt/media/image69.png" ContentType="image/png"/>
  <Override PartName="/ppt/media/image32.png" ContentType="image/png"/>
  <Override PartName="/ppt/media/image68.png" ContentType="image/png"/>
  <Override PartName="/ppt/media/image31.png" ContentType="image/png"/>
  <Override PartName="/ppt/media/image67.png" ContentType="image/png"/>
  <Override PartName="/ppt/media/image30.png" ContentType="image/png"/>
  <Override PartName="/ppt/media/image66.png" ContentType="image/png"/>
  <Override PartName="/ppt/media/image65.png" ContentType="image/png"/>
  <Override PartName="/ppt/media/image63.png" ContentType="image/png"/>
  <Override PartName="/ppt/media/image23.png" ContentType="image/png"/>
  <Override PartName="/ppt/media/image60.png" ContentType="image/png"/>
  <Override PartName="/ppt/media/image28.png" ContentType="image/png"/>
  <Override PartName="/ppt/media/image10.png" ContentType="image/png"/>
  <Override PartName="/ppt/media/image47.png" ContentType="image/png"/>
  <Override PartName="/ppt/media/image26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.png" ContentType="image/png"/>
  <Override PartName="/ppt/media/image13.png" ContentType="image/png"/>
  <Override PartName="/ppt/media/image9.png" ContentType="image/png"/>
  <Override PartName="/ppt/media/image3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3276720" y="228600"/>
            <a:ext cx="5675040" cy="9586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60.png"/><Relationship Id="rId3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61.png"/><Relationship Id="rId3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62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64.png"/><Relationship Id="rId3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65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66.png"/><Relationship Id="rId3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47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image" Target="../media/image53.png"/><Relationship Id="rId3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67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68.png"/><Relationship Id="rId3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image" Target="../media/image69.png"/><Relationship Id="rId3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0.pct"/><Relationship Id="rId3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1.pct"/><Relationship Id="rId3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7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73.pct"/><Relationship Id="rId3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73.pct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529920" y="1371600"/>
            <a:ext cx="8091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0000"/>
                </a:solidFill>
                <a:latin typeface="Times New Roman"/>
              </a:rPr>
              <a:t>BMOS - Blitzvorhersagen als Teil eines allgemein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0000"/>
                </a:solidFill>
                <a:latin typeface="Times New Roman"/>
              </a:rPr>
              <a:t>               </a:t>
            </a:r>
            <a:r>
              <a:rPr b="0" lang="de-DE" sz="2800" spc="-1" strike="noStrike">
                <a:solidFill>
                  <a:srgbClr val="ff0000"/>
                </a:solidFill>
                <a:latin typeface="Times New Roman"/>
              </a:rPr>
              <a:t>automatischen Nowcasting- und Warnsyst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de-DE" sz="28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0" lang="de-DE" sz="2800" spc="-1" strike="noStrike">
                <a:solidFill>
                  <a:srgbClr val="ff0000"/>
                </a:solidFill>
                <a:latin typeface="Times New Roman"/>
              </a:rPr>
              <a:t>auf der Grundlage der MOS-Technolog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1525680" y="3429000"/>
            <a:ext cx="499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MOS-Verfahrenstechni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BMOS als Teil von NowCast-M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BMOS am 19. Mai 20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2880" y="0"/>
            <a:ext cx="3486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0000"/>
                </a:solidFill>
                <a:latin typeface="Times New Roman"/>
              </a:rPr>
              <a:t>2.1 BMOS als Teil v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0" lang="de-DE" sz="2800" spc="-1" strike="noStrike">
                <a:solidFill>
                  <a:srgbClr val="ff0000"/>
                </a:solidFill>
                <a:latin typeface="Times New Roman"/>
              </a:rPr>
              <a:t>NowCast-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0560" y="1828800"/>
            <a:ext cx="90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d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10200" y="2209680"/>
            <a:ext cx="82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Times New Roman"/>
              </a:rPr>
              <a:t>Bli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59000" y="2579760"/>
            <a:ext cx="117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ConR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95800" y="524196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753560" y="3681360"/>
            <a:ext cx="155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GitterM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974400" y="3429000"/>
            <a:ext cx="893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Gi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St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867640" y="3657600"/>
            <a:ext cx="98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Inter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791680" y="5029200"/>
            <a:ext cx="1148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tion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8155080" y="518148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St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28600" y="1600200"/>
            <a:ext cx="1600200" cy="1600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752480" y="3429000"/>
            <a:ext cx="1600200" cy="914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562720" y="4952880"/>
            <a:ext cx="1600200" cy="914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80880" y="4800600"/>
            <a:ext cx="1295640" cy="1295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733920" y="3200400"/>
            <a:ext cx="1333440" cy="1333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828800" y="24382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590920" y="24382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1066680" y="3962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066680" y="39625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352680" y="38862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562720" y="3429000"/>
            <a:ext cx="1600200" cy="914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105520" y="38862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324480" y="43434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775640" y="4724280"/>
            <a:ext cx="1333440" cy="1333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162920" y="5410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8458200" y="289548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238880" y="1981080"/>
            <a:ext cx="1600200" cy="9144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58400" y="2000160"/>
            <a:ext cx="14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676520" y="5486400"/>
            <a:ext cx="3886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716280" y="1676520"/>
            <a:ext cx="1333440" cy="1333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772080" y="2133720"/>
            <a:ext cx="117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N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29200" y="236232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324480" y="23623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228600" y="228600"/>
            <a:ext cx="535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2.2 Vorhersage-Informationsquell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18880" y="1295280"/>
            <a:ext cx="8195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teil verschiedener Informationsquellen an der Vorhersageleistung des operationell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etterdienstes gegenüber einer optimalen „kostenlosen“ Referenzvorhersage a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ersistenz und Klima (qualitativ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311120" y="3216240"/>
            <a:ext cx="5562720" cy="2590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03440" y="306396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03440" y="4282920"/>
            <a:ext cx="56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374120" y="4648320"/>
            <a:ext cx="839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606040" y="5197320"/>
            <a:ext cx="295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ysikalische Model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144080" y="5867280"/>
            <a:ext cx="68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   2     6   12    24    36    48        96          168 Stun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00320" y="4206960"/>
            <a:ext cx="4673520" cy="1600200"/>
          </a:xfrm>
          <a:custGeom>
            <a:avLst/>
            <a:gdLst/>
            <a:ahLst/>
            <a:rect l="l" t="t" r="r" b="b"/>
            <a:pathLst>
              <a:path w="2944" h="1008">
                <a:moveTo>
                  <a:pt x="16" y="1008"/>
                </a:moveTo>
                <a:cubicBezTo>
                  <a:pt x="8" y="952"/>
                  <a:pt x="0" y="896"/>
                  <a:pt x="16" y="816"/>
                </a:cubicBezTo>
                <a:cubicBezTo>
                  <a:pt x="32" y="736"/>
                  <a:pt x="72" y="616"/>
                  <a:pt x="112" y="528"/>
                </a:cubicBezTo>
                <a:cubicBezTo>
                  <a:pt x="152" y="440"/>
                  <a:pt x="208" y="352"/>
                  <a:pt x="256" y="288"/>
                </a:cubicBezTo>
                <a:cubicBezTo>
                  <a:pt x="304" y="224"/>
                  <a:pt x="344" y="184"/>
                  <a:pt x="400" y="144"/>
                </a:cubicBezTo>
                <a:cubicBezTo>
                  <a:pt x="456" y="104"/>
                  <a:pt x="520" y="72"/>
                  <a:pt x="592" y="48"/>
                </a:cubicBezTo>
                <a:cubicBezTo>
                  <a:pt x="664" y="24"/>
                  <a:pt x="736" y="0"/>
                  <a:pt x="832" y="0"/>
                </a:cubicBezTo>
                <a:cubicBezTo>
                  <a:pt x="928" y="0"/>
                  <a:pt x="1064" y="24"/>
                  <a:pt x="1168" y="48"/>
                </a:cubicBezTo>
                <a:cubicBezTo>
                  <a:pt x="1272" y="72"/>
                  <a:pt x="1360" y="96"/>
                  <a:pt x="1456" y="144"/>
                </a:cubicBezTo>
                <a:cubicBezTo>
                  <a:pt x="1552" y="192"/>
                  <a:pt x="1656" y="272"/>
                  <a:pt x="1744" y="336"/>
                </a:cubicBezTo>
                <a:cubicBezTo>
                  <a:pt x="1832" y="400"/>
                  <a:pt x="1904" y="480"/>
                  <a:pt x="1984" y="528"/>
                </a:cubicBezTo>
                <a:cubicBezTo>
                  <a:pt x="2064" y="576"/>
                  <a:pt x="2136" y="592"/>
                  <a:pt x="2224" y="624"/>
                </a:cubicBezTo>
                <a:cubicBezTo>
                  <a:pt x="2312" y="656"/>
                  <a:pt x="2408" y="688"/>
                  <a:pt x="2512" y="720"/>
                </a:cubicBezTo>
                <a:cubicBezTo>
                  <a:pt x="2616" y="752"/>
                  <a:pt x="2776" y="792"/>
                  <a:pt x="2848" y="816"/>
                </a:cubicBezTo>
                <a:cubicBezTo>
                  <a:pt x="2920" y="840"/>
                  <a:pt x="2932" y="852"/>
                  <a:pt x="2944" y="86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311120" y="4041720"/>
            <a:ext cx="2895840" cy="469800"/>
          </a:xfrm>
          <a:custGeom>
            <a:avLst/>
            <a:gdLst/>
            <a:ahLst/>
            <a:rect l="l" t="t" r="r" b="b"/>
            <a:pathLst>
              <a:path w="1824" h="296">
                <a:moveTo>
                  <a:pt x="1824" y="152"/>
                </a:moveTo>
                <a:cubicBezTo>
                  <a:pt x="1760" y="136"/>
                  <a:pt x="1696" y="120"/>
                  <a:pt x="1632" y="104"/>
                </a:cubicBezTo>
                <a:cubicBezTo>
                  <a:pt x="1568" y="88"/>
                  <a:pt x="1520" y="72"/>
                  <a:pt x="1440" y="56"/>
                </a:cubicBezTo>
                <a:cubicBezTo>
                  <a:pt x="1360" y="40"/>
                  <a:pt x="1248" y="16"/>
                  <a:pt x="1152" y="8"/>
                </a:cubicBezTo>
                <a:cubicBezTo>
                  <a:pt x="1056" y="0"/>
                  <a:pt x="976" y="0"/>
                  <a:pt x="864" y="8"/>
                </a:cubicBezTo>
                <a:cubicBezTo>
                  <a:pt x="752" y="16"/>
                  <a:pt x="584" y="32"/>
                  <a:pt x="480" y="56"/>
                </a:cubicBezTo>
                <a:cubicBezTo>
                  <a:pt x="376" y="80"/>
                  <a:pt x="320" y="112"/>
                  <a:pt x="240" y="152"/>
                </a:cubicBezTo>
                <a:cubicBezTo>
                  <a:pt x="160" y="192"/>
                  <a:pt x="40" y="272"/>
                  <a:pt x="0" y="29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07040" y="2684520"/>
            <a:ext cx="640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RV  </a:t>
            </a: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Reduktion der Varianz:  RV = 1 - RMSE(VHS) / RMSE(Ref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232920" y="228600"/>
            <a:ext cx="522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2.3 BMOS - operationelles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89720" y="1790640"/>
            <a:ext cx="87714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lle 15 Minuten wird eine neuer Lauf gerech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Vorhersagezeitspanne: 6 Stunden, zu den Hauptterminen 48 Stun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Zeitl. Auflösung: 15 Minuten (bis +2 Std.), 1 Stunde (bis +6 Std.)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3 Stunden (bis +12 Std.), 6 Stunden (bis +48 Std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Vorhersagegitter: 46.5 N - 57.0 N, 4.5 E - 18.0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uflösung: 0.25° x 0.375° (entspr. etwa 27 x 27 k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Datenbasis: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Modell: GME 00z/12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Blitzortung: Siemens BLIDS </a:t>
            </a:r>
            <a:r>
              <a:rPr b="0" lang="de-DE" sz="2400" spc="-1" strike="noStrike">
                <a:solidFill>
                  <a:srgbClr val="808080"/>
                </a:solidFill>
                <a:latin typeface="Times New Roman"/>
              </a:rPr>
              <a:t>(onweb.blids.d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232920" y="228600"/>
            <a:ext cx="522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2.4 BMOS - operationelles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08480" y="1676520"/>
            <a:ext cx="77353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Prediktoren (basierend auf Modelldaten und Beobachtungen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ff0000"/>
                </a:solidFill>
                <a:latin typeface="Times New Roman"/>
              </a:rPr>
              <a:t>Modellda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llg. MOS-Prediktor-Sat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21 Gewitterindiz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geostrophische Windrichtung und -gesch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(für Berechnung der Obs-Advek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ff0000"/>
                </a:solidFill>
                <a:latin typeface="Times New Roman"/>
              </a:rPr>
              <a:t>Beobachtungsdat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Persistenzprediktoren (der Pr-Loc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dvektionsprediktoren (mit Trajektori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403560" y="2103480"/>
            <a:ext cx="8410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Density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Blitzdichte pro Flächeneinheit (G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IsolatedX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Wahrscheinlichkeit für min. X Blitze pro G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Occasional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Wahrsch. dass min. 5% der Fläche v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Gewitter betroffen si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Frequent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Wahrsch. dass min. 20% der Fläche v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Gewitter betroffen si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31480" y="228600"/>
            <a:ext cx="389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0000"/>
                </a:solidFill>
                <a:latin typeface="Times New Roman"/>
              </a:rPr>
              <a:t>2.5 BMOS - Prediktand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28240" y="228600"/>
            <a:ext cx="411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3.1 Fallstudie 19. Mai 200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123200" y="2193840"/>
            <a:ext cx="66852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Squall-Line über Baye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ca. 22.000 Blitze (Siemens BLID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Starnberg-Torn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schwerer Hagelschlag in München, ca. 5 c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232200" y="228600"/>
            <a:ext cx="419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3.3 19. Mai 2003 - BOL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1020600" y="1370160"/>
            <a:ext cx="7101000" cy="548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32200" y="228600"/>
            <a:ext cx="419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3.3 19. Mai 2003 - BOL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020600" y="1370160"/>
            <a:ext cx="7101000" cy="548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232200" y="228600"/>
            <a:ext cx="419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3.3 19. Mai 2003 - BOL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1020600" y="1370160"/>
            <a:ext cx="7101000" cy="548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232200" y="228600"/>
            <a:ext cx="419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3.3 19. Mai 2003 - BOL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1020600" y="1370160"/>
            <a:ext cx="7101000" cy="548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80" y="228600"/>
            <a:ext cx="53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0000"/>
                </a:solidFill>
                <a:latin typeface="Times New Roman"/>
              </a:rPr>
              <a:t>1.1 MOS als Modell-Postprocess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3200400"/>
            <a:ext cx="18435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physikalis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(numerisch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Feld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Vorhersage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model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332320" y="3200400"/>
            <a:ext cx="1727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empiris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(statistisch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Inter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pretations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model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76400" y="1981080"/>
            <a:ext cx="1695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Prediktor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Modellvariabl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(u,v,w,T,p,U..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665080" y="3413160"/>
            <a:ext cx="240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Synthetische Größ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(Advection, Vorticity..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818440" y="5029200"/>
            <a:ext cx="2027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Direct model out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imes New Roman"/>
              </a:rPr>
              <a:t>(DM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696080" y="3048120"/>
            <a:ext cx="1123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lemente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orher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28600" y="2971800"/>
            <a:ext cx="2362320" cy="23623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029200" y="2971800"/>
            <a:ext cx="2362320" cy="23623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590920" y="4114800"/>
            <a:ext cx="2438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447920" y="23623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1447560" y="2362320"/>
            <a:ext cx="4724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172200" y="23623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47920" y="53341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447920" y="5867280"/>
            <a:ext cx="6781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8229600" y="4114800"/>
            <a:ext cx="0" cy="175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391520" y="411480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232200" y="228600"/>
            <a:ext cx="419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3.3 19. Mai 2003 - BOL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1020600" y="1370160"/>
            <a:ext cx="7101000" cy="548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232200" y="228600"/>
            <a:ext cx="419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3.3 19. Mai 2003 - BOL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020600" y="1370160"/>
            <a:ext cx="7101000" cy="548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232200" y="228600"/>
            <a:ext cx="419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3.3 19. Mai 2003 - BOL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1020600" y="1370160"/>
            <a:ext cx="7101000" cy="548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232200" y="228600"/>
            <a:ext cx="419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3.3 19. Mai 2003 - BOL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1020600" y="1370160"/>
            <a:ext cx="7101000" cy="548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232200" y="228600"/>
            <a:ext cx="419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3.3 19. Mai 2003 - BOL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1020600" y="1370160"/>
            <a:ext cx="7101000" cy="548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232200" y="228600"/>
            <a:ext cx="419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3.2 19. Mai 2003 - BOL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1020600" y="1370160"/>
            <a:ext cx="7101000" cy="548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232200" y="228600"/>
            <a:ext cx="419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3.3 19. Mai 2003 - BOL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1020600" y="1370160"/>
            <a:ext cx="7101000" cy="548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232200" y="228600"/>
            <a:ext cx="419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3.3 19. Mai 2003 - BOL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1020600" y="1370160"/>
            <a:ext cx="7101000" cy="548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232200" y="228600"/>
            <a:ext cx="419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3.3 19. Mai 2003 - BOL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1020600" y="1370160"/>
            <a:ext cx="7101000" cy="548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232200" y="228600"/>
            <a:ext cx="419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3.3 19. Mai 2003 - BOL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1020600" y="1370160"/>
            <a:ext cx="7101000" cy="548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800" y="0"/>
            <a:ext cx="5068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1.2 Statistische Wettervorhersage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Methoden im Verglei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3840" y="1676520"/>
            <a:ext cx="8009640" cy="47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Methode               Entwicklung                     Operation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Pr  -----------&gt; Pd             Pr ------------&gt; P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Klassisch          ANA(t)    OBS(t+dt)       ANA(t)      OBS(t+d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N=10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PP                     ANA(t)    OBS(t)            VOR(t+dt)  OBS(t+d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N=10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MOS                 VOR(t+dt)  OBS(t+dt)    VOR(t+dt)  OBS(t+d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N=1.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Kalman-F.                                                  Adaptive Reg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N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imes New Roman"/>
              </a:rPr>
              <a:t>Pr: Prediktoren  Pd: Prediktanden  PP: Perfect Pro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2584440"/>
            <a:ext cx="784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981080" y="1822320"/>
            <a:ext cx="0" cy="388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181480" y="1746360"/>
            <a:ext cx="0" cy="388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3498840"/>
            <a:ext cx="784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4260960"/>
            <a:ext cx="784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5022720"/>
            <a:ext cx="784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232200" y="228600"/>
            <a:ext cx="419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3.3 19. Mai 2003 - BOL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1020600" y="1370160"/>
            <a:ext cx="7101000" cy="548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232200" y="228600"/>
            <a:ext cx="419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3.3 19. Mai 2003 - BOL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1020600" y="1370160"/>
            <a:ext cx="7101000" cy="548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232200" y="228600"/>
            <a:ext cx="419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3.3 19. Mai 2003 - BOL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1020600" y="1370160"/>
            <a:ext cx="7101000" cy="548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32200" y="228600"/>
            <a:ext cx="419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3.3 19. Mai 2003 - BOL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1020600" y="1370160"/>
            <a:ext cx="7101000" cy="548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232200" y="228600"/>
            <a:ext cx="419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3.3 19. Mai 2003 - BOL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1020600" y="1370160"/>
            <a:ext cx="7101000" cy="548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232200" y="228600"/>
            <a:ext cx="419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3.3 19. Mai 2003 - BOL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1020600" y="1370160"/>
            <a:ext cx="7101000" cy="548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232200" y="228600"/>
            <a:ext cx="419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3.3 19. Mai 2003 - BOL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1020600" y="1370160"/>
            <a:ext cx="7101000" cy="548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232200" y="228600"/>
            <a:ext cx="419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3.3 19. Mai 2003 - BOL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1020600" y="1370160"/>
            <a:ext cx="7101000" cy="548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232200" y="228600"/>
            <a:ext cx="419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3.3 19. Mai 2003 - BOL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1020600" y="1370160"/>
            <a:ext cx="7101000" cy="548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232200" y="228600"/>
            <a:ext cx="419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3.3 19. Mai 2003 - BOL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1020600" y="1370160"/>
            <a:ext cx="7101000" cy="548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8240" y="228600"/>
            <a:ext cx="343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0000"/>
                </a:solidFill>
                <a:latin typeface="Times New Roman"/>
              </a:rPr>
              <a:t>1.3 Statistik vs. Physi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228120" y="1676520"/>
            <a:ext cx="26877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Systemanaly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Modellier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usgangspunk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Ergebnisstrukt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nwendungsberei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Modellieraufw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Datenerfass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bevorzug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Anwendungsfäl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57560" y="1676520"/>
            <a:ext cx="21816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theoretis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dedukti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physik. Formel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komplizie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univers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ho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weni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theoretis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hinreich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erforsch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Syste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415920" y="1676520"/>
            <a:ext cx="27334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iris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ukti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obachtu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infa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grenzt(Raum,Ze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i weni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-priori-Wis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über 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971800" y="1523880"/>
            <a:ext cx="3162240" cy="33530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971800" y="5105520"/>
            <a:ext cx="3162240" cy="1371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057400" y="19051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752480" y="22860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666880" y="26668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057400" y="29718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90512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19320" y="4114800"/>
            <a:ext cx="1752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447920" y="44956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209680" y="57150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6171840" y="19051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171840" y="22860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171840" y="26668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171840" y="30481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171840" y="37339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171840" y="41148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6171840" y="4495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171840" y="57150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232200" y="228600"/>
            <a:ext cx="419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3.3 19. Mai 2003 - BOL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1020600" y="1370160"/>
            <a:ext cx="7101000" cy="548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232200" y="228600"/>
            <a:ext cx="419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3.3 19. Mai 2003 - BOL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1020600" y="1370160"/>
            <a:ext cx="7101000" cy="548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232200" y="228600"/>
            <a:ext cx="419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3.3 19. Mai 2003 - BOL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1020600" y="1370160"/>
            <a:ext cx="7101000" cy="548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232200" y="228600"/>
            <a:ext cx="419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3.3 19. Mai 2003 - BOL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1020600" y="1370160"/>
            <a:ext cx="7101000" cy="548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232200" y="228600"/>
            <a:ext cx="419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3.3 19. Mai 2003 - BOL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1020600" y="1370160"/>
            <a:ext cx="7101000" cy="548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232200" y="228600"/>
            <a:ext cx="419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3.3 19. Mai 2003 - BOL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1020600" y="1370160"/>
            <a:ext cx="7101000" cy="548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230040" y="228600"/>
            <a:ext cx="376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3.3 19. Mai 2003 - Rad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1066680" y="1249200"/>
            <a:ext cx="7010640" cy="560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231480" y="228600"/>
            <a:ext cx="394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3.4 19. Mai 2003 - BLI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838080" y="1828800"/>
          <a:ext cx="6324480" cy="4748040"/>
        </p:xfrm>
        <a:graphic>
          <a:graphicData uri="http://schemas.openxmlformats.org/drawingml/2006/table">
            <a:tbl>
              <a:tblPr/>
              <a:tblGrid>
                <a:gridCol w="1581120"/>
                <a:gridCol w="1581120"/>
                <a:gridCol w="1581120"/>
                <a:gridCol w="15811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T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zah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T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zah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4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7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3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9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7" name=""/>
          <p:cNvSpPr/>
          <p:nvPr/>
        </p:nvSpPr>
        <p:spPr>
          <a:xfrm>
            <a:off x="281160" y="1279440"/>
            <a:ext cx="714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Stündliche Summen der gorteten Blitzschläge, 19.5.20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231480" y="228600"/>
            <a:ext cx="394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3.4 19. Mai 2003 - BLI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2482920" y="1289160"/>
            <a:ext cx="4176720" cy="556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231480" y="228600"/>
            <a:ext cx="394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3.4 19. Mai 2003 - BLI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2482920" y="1289160"/>
            <a:ext cx="4176720" cy="556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960" y="0"/>
            <a:ext cx="5331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1.4 RV-Werte von MOS in Re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zu EM+Kalman-Fil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685800" y="1143000"/>
          <a:ext cx="4202280" cy="5800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143000"/>
                    <a:ext cx="4202280" cy="580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" name=""/>
          <p:cNvSpPr/>
          <p:nvPr/>
        </p:nvSpPr>
        <p:spPr>
          <a:xfrm>
            <a:off x="4336920" y="6210360"/>
            <a:ext cx="283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(Quelle: DWD, Verfifkationsberich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231480" y="228600"/>
            <a:ext cx="394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3.4 19. Mai 2003 - BLI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2486160" y="1295280"/>
            <a:ext cx="417168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231480" y="228600"/>
            <a:ext cx="394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3.4 19. Mai 2003 - BLI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2486160" y="1295280"/>
            <a:ext cx="417168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231480" y="228600"/>
            <a:ext cx="394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3.4 19. Mai 2003 - BLI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2486160" y="1295280"/>
            <a:ext cx="417168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231480" y="228600"/>
            <a:ext cx="394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3.4 19. Mai 2003 - BLI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486160" y="1295280"/>
            <a:ext cx="417168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231480" y="228600"/>
            <a:ext cx="394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3.4 19. Mai 2003 - BLI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486160" y="1295280"/>
            <a:ext cx="417168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231480" y="228600"/>
            <a:ext cx="394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3.4 19. Mai 2003 - BLI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2486160" y="1295280"/>
            <a:ext cx="417168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231480" y="228600"/>
            <a:ext cx="394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3.4 19. Mai 2003 - BLI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2486160" y="1295280"/>
            <a:ext cx="417168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231480" y="228600"/>
            <a:ext cx="394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3.4 19. Mai 2003 - BLI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2486160" y="1295280"/>
            <a:ext cx="417168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231480" y="228600"/>
            <a:ext cx="394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3.4 19. Mai 2003 - BLI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2486160" y="1295280"/>
            <a:ext cx="417168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231480" y="228600"/>
            <a:ext cx="394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3.4 19. Mai 2003 - BLI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2486160" y="1295280"/>
            <a:ext cx="417168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535680" y="1541520"/>
            <a:ext cx="59626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T_max für Berlin, T+72 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T_max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0.9 * DMO_T2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0.1 * V_1000hP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600" y="0"/>
            <a:ext cx="511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1.5 Eine einfache MOS-Gleichu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(fiktiv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231480" y="228600"/>
            <a:ext cx="394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3.4 19. Mai 2003 - BLI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2486160" y="1295280"/>
            <a:ext cx="417168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231480" y="228600"/>
            <a:ext cx="394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3.4 19. Mai 2003 - BLI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2486160" y="1295280"/>
            <a:ext cx="417168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231480" y="228600"/>
            <a:ext cx="394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3.4 19. Mai 2003 - BLI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2486160" y="1295280"/>
            <a:ext cx="417168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231480" y="228600"/>
            <a:ext cx="394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3.4 19. Mai 2003 - BLI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2486160" y="1295280"/>
            <a:ext cx="417168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231480" y="228600"/>
            <a:ext cx="394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3.4 19. Mai 2003 - BLI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2486160" y="1295280"/>
            <a:ext cx="417168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231480" y="228600"/>
            <a:ext cx="394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3.4 19. Mai 2003 - BLI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2486160" y="1295280"/>
            <a:ext cx="417168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231480" y="228600"/>
            <a:ext cx="394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3.4 19. Mai 2003 - BLI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2486160" y="1295280"/>
            <a:ext cx="417168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231480" y="228600"/>
            <a:ext cx="394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3.4 19. Mai 2003 - BLI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486160" y="1295280"/>
            <a:ext cx="417168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231480" y="228600"/>
            <a:ext cx="394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3.4 19. Mai 2003 - BLI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2486160" y="1295280"/>
            <a:ext cx="417168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231480" y="228600"/>
            <a:ext cx="394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3.4 19. Mai 2003 - BLI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2486160" y="1295280"/>
            <a:ext cx="417168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31480" y="228600"/>
            <a:ext cx="549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1.6 Klimatrend in MOS-Gleichung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3680" y="1905120"/>
            <a:ext cx="9126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Mit zunehmender Valid-Zeit tendieren MOS-Gleichungen z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Klimamittel (Beispiel: MOS-Gleichungen für die Windgeschwin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Digkeit, North Sea Platform K13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Struktur: FF(T+dt) = Const. + Coeff * FF_1000(T+d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dt/h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Const/kn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Coe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4.6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0.4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48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5.0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0.4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120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8.2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1000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14.8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57200" y="4495680"/>
            <a:ext cx="556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231480" y="228600"/>
            <a:ext cx="394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3.4 19. Mai 2003 - BLI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2486160" y="1295280"/>
            <a:ext cx="417168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231480" y="228600"/>
            <a:ext cx="394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3.4 19. Mai 2003 - BLI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2486160" y="1295280"/>
            <a:ext cx="417168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232560" y="228600"/>
            <a:ext cx="532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0000"/>
                </a:solidFill>
                <a:latin typeface="Times New Roman"/>
              </a:rPr>
              <a:t>3.5 19. Mai 2003 BMOS vs. BLI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2209680" y="1295280"/>
            <a:ext cx="39434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232560" y="228600"/>
            <a:ext cx="532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0000"/>
                </a:solidFill>
                <a:latin typeface="Times New Roman"/>
              </a:rPr>
              <a:t>3.5 19. Mai 2003 BMOS vs. BLI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2209680" y="1295280"/>
            <a:ext cx="39434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232560" y="228600"/>
            <a:ext cx="532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0000"/>
                </a:solidFill>
                <a:latin typeface="Times New Roman"/>
              </a:rPr>
              <a:t>3.5 19. Mai 2003 BMOS vs. BLI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2209680" y="1295280"/>
            <a:ext cx="3943440" cy="525780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2209680" y="1289160"/>
            <a:ext cx="3948120" cy="526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232560" y="228600"/>
            <a:ext cx="532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0000"/>
                </a:solidFill>
                <a:latin typeface="Times New Roman"/>
              </a:rPr>
              <a:t>3.5 19. Mai 2003 BMOS vs. BLI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2209680" y="1295280"/>
            <a:ext cx="3943440" cy="525780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2"/>
          <a:stretch/>
        </p:blipFill>
        <p:spPr>
          <a:xfrm>
            <a:off x="2209680" y="1295280"/>
            <a:ext cx="39434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232560" y="228600"/>
            <a:ext cx="532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0000"/>
                </a:solidFill>
                <a:latin typeface="Times New Roman"/>
              </a:rPr>
              <a:t>3.5 19. Mai 2003 BMOS vs. BLI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>
            <a:off x="2209680" y="1295280"/>
            <a:ext cx="3943440" cy="525780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2"/>
          <a:stretch/>
        </p:blipFill>
        <p:spPr>
          <a:xfrm>
            <a:off x="2209680" y="1295280"/>
            <a:ext cx="39434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232560" y="228600"/>
            <a:ext cx="532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0000"/>
                </a:solidFill>
                <a:latin typeface="Times New Roman"/>
              </a:rPr>
              <a:t>3.5 19. Mai 2003 BMOS vs. BLI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209680" y="1295280"/>
            <a:ext cx="3943440" cy="5257800"/>
          </a:xfrm>
          <a:prstGeom prst="rect">
            <a:avLst/>
          </a:prstGeom>
          <a:ln w="0">
            <a:noFill/>
          </a:ln>
        </p:spPr>
      </p:pic>
      <p:pic>
        <p:nvPicPr>
          <p:cNvPr id="281" name="" descr=""/>
          <p:cNvPicPr/>
          <p:nvPr/>
        </p:nvPicPr>
        <p:blipFill>
          <a:blip r:embed="rId2"/>
          <a:stretch/>
        </p:blipFill>
        <p:spPr>
          <a:xfrm>
            <a:off x="2209680" y="1295280"/>
            <a:ext cx="39434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232560" y="228600"/>
            <a:ext cx="532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0000"/>
                </a:solidFill>
                <a:latin typeface="Times New Roman"/>
              </a:rPr>
              <a:t>3.5 19. Mai 2003 BMOS vs. BLI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1"/>
          <a:stretch/>
        </p:blipFill>
        <p:spPr>
          <a:xfrm>
            <a:off x="2209680" y="1295280"/>
            <a:ext cx="3943440" cy="5257800"/>
          </a:xfrm>
          <a:prstGeom prst="rect">
            <a:avLst/>
          </a:prstGeom>
          <a:ln w="0">
            <a:noFill/>
          </a:ln>
        </p:spPr>
      </p:pic>
      <p:pic>
        <p:nvPicPr>
          <p:cNvPr id="284" name="" descr=""/>
          <p:cNvPicPr/>
          <p:nvPr/>
        </p:nvPicPr>
        <p:blipFill>
          <a:blip r:embed="rId2"/>
          <a:stretch/>
        </p:blipFill>
        <p:spPr>
          <a:xfrm>
            <a:off x="2209680" y="1295280"/>
            <a:ext cx="39434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232560" y="228600"/>
            <a:ext cx="532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0000"/>
                </a:solidFill>
                <a:latin typeface="Times New Roman"/>
              </a:rPr>
              <a:t>3.5 19. Mai 2003 BMOS vs. BLI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2209680" y="1295280"/>
            <a:ext cx="3943440" cy="5257800"/>
          </a:xfrm>
          <a:prstGeom prst="rect">
            <a:avLst/>
          </a:prstGeom>
          <a:ln w="0">
            <a:noFill/>
          </a:ln>
        </p:spPr>
      </p:pic>
      <p:pic>
        <p:nvPicPr>
          <p:cNvPr id="287" name="" descr=""/>
          <p:cNvPicPr/>
          <p:nvPr/>
        </p:nvPicPr>
        <p:blipFill>
          <a:blip r:embed="rId2"/>
          <a:stretch/>
        </p:blipFill>
        <p:spPr>
          <a:xfrm>
            <a:off x="2209680" y="1295280"/>
            <a:ext cx="39434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2160" y="0"/>
            <a:ext cx="4240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0000"/>
                </a:solidFill>
                <a:latin typeface="Times New Roman"/>
              </a:rPr>
              <a:t>1.7 Auto-TAF: Regressions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0" lang="de-DE" sz="2800" spc="-1" strike="noStrike">
                <a:solidFill>
                  <a:srgbClr val="ff0000"/>
                </a:solidFill>
                <a:latin typeface="Times New Roman"/>
              </a:rPr>
              <a:t>gleichungs-Beispiele (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93000" y="2057400"/>
            <a:ext cx="7740000" cy="39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##############################################################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St=10637  Issue=06z  +012   EM-Run=12z   P(Ths)  Sum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##############################################################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MV    SD  R(Pd) R(Res)  Name             dRVI     Co Wgt  Ct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0.5   1.4   0.37   0.37  ThsKoH           13.2   2.48  32    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0.2   0.7   0.36   0.30  ThsSM             7.2   4.76  30    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8.8   9.5   0.28   0.18  StF(ww_8)         1.5   0.22  19   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1.9  20.9   0.29   0.15  Rot_1000/FF1000   0.5   0.10  19   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==============================================================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Const. = -0.6   #Cases = 422   RV(HC) =  27   SD%(8) =      7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MV(Pd) =  3.4   #PotPr = 165   E(RVI) =  21   RMSE   =    11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SD(Pd) = 13.5                                 E(RMSI)=    12.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232560" y="228600"/>
            <a:ext cx="532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0000"/>
                </a:solidFill>
                <a:latin typeface="Times New Roman"/>
              </a:rPr>
              <a:t>3.5 19. Mai 2003 BMOS vs. BLI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>
            <a:off x="2209680" y="1295280"/>
            <a:ext cx="3943440" cy="5257800"/>
          </a:xfrm>
          <a:prstGeom prst="rect">
            <a:avLst/>
          </a:prstGeom>
          <a:ln w="0">
            <a:noFill/>
          </a:ln>
        </p:spPr>
      </p:pic>
      <p:pic>
        <p:nvPicPr>
          <p:cNvPr id="290" name="" descr=""/>
          <p:cNvPicPr/>
          <p:nvPr/>
        </p:nvPicPr>
        <p:blipFill>
          <a:blip r:embed="rId2"/>
          <a:stretch/>
        </p:blipFill>
        <p:spPr>
          <a:xfrm>
            <a:off x="2209680" y="1295280"/>
            <a:ext cx="394344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232560" y="228600"/>
            <a:ext cx="532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0000"/>
                </a:solidFill>
                <a:latin typeface="Times New Roman"/>
              </a:rPr>
              <a:t>3.5 19. Mai 2003 BMOS vs. BLI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1"/>
          <a:stretch/>
        </p:blipFill>
        <p:spPr>
          <a:xfrm>
            <a:off x="380880" y="1371600"/>
            <a:ext cx="4119840" cy="5492880"/>
          </a:xfrm>
          <a:prstGeom prst="rect">
            <a:avLst/>
          </a:prstGeom>
          <a:ln w="0">
            <a:noFill/>
          </a:ln>
        </p:spPr>
      </p:pic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4724280" y="1371600"/>
            <a:ext cx="4119840" cy="549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232560" y="228600"/>
            <a:ext cx="532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0000"/>
                </a:solidFill>
                <a:latin typeface="Times New Roman"/>
              </a:rPr>
              <a:t>3.5 19. Mai 2003 BMOS vs. BLI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1"/>
          <a:stretch/>
        </p:blipFill>
        <p:spPr>
          <a:xfrm>
            <a:off x="380880" y="1371600"/>
            <a:ext cx="4119840" cy="549288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/>
          <p:cNvPicPr/>
          <p:nvPr/>
        </p:nvPicPr>
        <p:blipFill>
          <a:blip r:embed="rId2"/>
          <a:stretch/>
        </p:blipFill>
        <p:spPr>
          <a:xfrm>
            <a:off x="4724280" y="1371600"/>
            <a:ext cx="4119840" cy="549288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"/>
          <p:cNvPicPr/>
          <p:nvPr/>
        </p:nvPicPr>
        <p:blipFill>
          <a:blip r:embed="rId3"/>
          <a:stretch/>
        </p:blipFill>
        <p:spPr>
          <a:xfrm>
            <a:off x="3276720" y="1676520"/>
            <a:ext cx="573876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232560" y="228600"/>
            <a:ext cx="532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0000"/>
                </a:solidFill>
                <a:latin typeface="Times New Roman"/>
              </a:rPr>
              <a:t>3.5 19. Mai 2003 BMOS vs. BLI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1"/>
          <a:stretch/>
        </p:blipFill>
        <p:spPr>
          <a:xfrm>
            <a:off x="380880" y="1371600"/>
            <a:ext cx="4119840" cy="5492880"/>
          </a:xfrm>
          <a:prstGeom prst="rect">
            <a:avLst/>
          </a:prstGeom>
          <a:ln w="0">
            <a:noFill/>
          </a:ln>
        </p:spPr>
      </p:pic>
      <p:pic>
        <p:nvPicPr>
          <p:cNvPr id="300" name="" descr=""/>
          <p:cNvPicPr/>
          <p:nvPr/>
        </p:nvPicPr>
        <p:blipFill>
          <a:blip r:embed="rId2"/>
          <a:stretch/>
        </p:blipFill>
        <p:spPr>
          <a:xfrm>
            <a:off x="4686480" y="1371600"/>
            <a:ext cx="4122720" cy="549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232560" y="228600"/>
            <a:ext cx="532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0000"/>
                </a:solidFill>
                <a:latin typeface="Times New Roman"/>
              </a:rPr>
              <a:t>3.5 19. Mai 2003 BMOS vs. BLI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399960" y="1295280"/>
            <a:ext cx="4172040" cy="5562720"/>
          </a:xfrm>
          <a:prstGeom prst="rect">
            <a:avLst/>
          </a:prstGeom>
          <a:ln w="0">
            <a:noFill/>
          </a:ln>
        </p:spPr>
      </p:pic>
      <p:pic>
        <p:nvPicPr>
          <p:cNvPr id="303" name="" descr=""/>
          <p:cNvPicPr/>
          <p:nvPr/>
        </p:nvPicPr>
        <p:blipFill>
          <a:blip r:embed="rId2"/>
          <a:stretch/>
        </p:blipFill>
        <p:spPr>
          <a:xfrm>
            <a:off x="4800600" y="1295280"/>
            <a:ext cx="417204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232560" y="228600"/>
            <a:ext cx="532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0000"/>
                </a:solidFill>
                <a:latin typeface="Times New Roman"/>
              </a:rPr>
              <a:t>3.5 19. Mai 2003 BMOS vs. BLI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5" name="" descr=""/>
          <p:cNvPicPr/>
          <p:nvPr/>
        </p:nvPicPr>
        <p:blipFill>
          <a:blip r:embed="rId1"/>
          <a:stretch/>
        </p:blipFill>
        <p:spPr>
          <a:xfrm>
            <a:off x="4800600" y="1295280"/>
            <a:ext cx="4172040" cy="5562720"/>
          </a:xfrm>
          <a:prstGeom prst="rect">
            <a:avLst/>
          </a:prstGeom>
          <a:ln w="0">
            <a:noFill/>
          </a:ln>
        </p:spPr>
      </p:pic>
      <p:pic>
        <p:nvPicPr>
          <p:cNvPr id="306" name="" descr=""/>
          <p:cNvPicPr/>
          <p:nvPr/>
        </p:nvPicPr>
        <p:blipFill>
          <a:blip r:embed="rId2"/>
          <a:stretch/>
        </p:blipFill>
        <p:spPr>
          <a:xfrm>
            <a:off x="399960" y="1295280"/>
            <a:ext cx="417204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230400" y="228600"/>
            <a:ext cx="494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3.6 19. Mai: BMOS-Gleichung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6172200" y="1981080"/>
            <a:ext cx="2862360" cy="381636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2"/>
          <a:stretch/>
        </p:blipFill>
        <p:spPr>
          <a:xfrm>
            <a:off x="228600" y="1600200"/>
            <a:ext cx="573876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230400" y="228600"/>
            <a:ext cx="494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3.6 19. Mai: BMOS-Gleichung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1600200" y="1295280"/>
          <a:ext cx="6121440" cy="4880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1295280"/>
                    <a:ext cx="6121440" cy="488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230400" y="228600"/>
            <a:ext cx="494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3.6 19. Mai: BMOS-Gleichung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4" name=""/>
          <p:cNvGraphicFramePr/>
          <p:nvPr/>
        </p:nvGraphicFramePr>
        <p:xfrm>
          <a:off x="1676520" y="1219320"/>
          <a:ext cx="4927320" cy="556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1219320"/>
                    <a:ext cx="4927320" cy="55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" descr=""/>
          <p:cNvPicPr/>
          <p:nvPr/>
        </p:nvPicPr>
        <p:blipFill>
          <a:blip r:embed="rId1"/>
          <a:stretch/>
        </p:blipFill>
        <p:spPr>
          <a:xfrm>
            <a:off x="1054080" y="1380960"/>
            <a:ext cx="7035840" cy="547704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/>
          <p:nvPr/>
        </p:nvSpPr>
        <p:spPr>
          <a:xfrm>
            <a:off x="228960" y="228600"/>
            <a:ext cx="541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3.7 19. Mai 2003 Starnberg-Torn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2160" y="0"/>
            <a:ext cx="4286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0000"/>
                </a:solidFill>
                <a:latin typeface="Times New Roman"/>
              </a:rPr>
              <a:t>1.8 Auto-TAF: Regressions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0000"/>
                </a:solidFill>
                <a:latin typeface="Times New Roman"/>
              </a:rPr>
              <a:t>       </a:t>
            </a:r>
            <a:r>
              <a:rPr b="0" lang="de-DE" sz="2800" spc="-1" strike="noStrike">
                <a:solidFill>
                  <a:srgbClr val="ff0000"/>
                </a:solidFill>
                <a:latin typeface="Times New Roman"/>
              </a:rPr>
              <a:t>gleichungs-Beispiele 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8320" y="2133720"/>
            <a:ext cx="774000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##############################################################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St=10637  Issue=06z  +012   EM-Run=12z   FX3     Spr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##############################################################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MV    SD  R(Pd) R(Res)  Name             dRVI     Co Wgt  Ct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7.3   2.9   0.73   0.73  StF(FF)          53.2   1.96  62   4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0.0  13.3  -0.28  -0.19  ThW_Adv_850       1.5  -0.10 -15   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0.9   2.1   0.35   0.18  ThsSL             1.3   0.59  13    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==============================================================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Const. = -0.7   #Cases = 379   RV(HC) =  58   SD%(8) =      4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MV(Pd) = 14.2   #PotPr = 156   E(RVI) =  55   RMSE   =     5.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SD(Pd) =  8.8                                 E(RMSI)=     5.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ourier New"/>
              </a:rPr>
              <a:t>-------------------------------------------------------------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228960" y="228600"/>
            <a:ext cx="541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3.7 19. Mai 2003 Starnberg-Torn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>
            <a:off x="3124080" y="1676520"/>
            <a:ext cx="5738760" cy="459108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/>
          <p:nvPr/>
        </p:nvSpPr>
        <p:spPr>
          <a:xfrm flipH="1" flipV="1">
            <a:off x="7086240" y="5334120"/>
            <a:ext cx="76212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2"/>
          <a:stretch/>
        </p:blipFill>
        <p:spPr>
          <a:xfrm>
            <a:off x="228600" y="1371600"/>
            <a:ext cx="6135840" cy="52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228960" y="228600"/>
            <a:ext cx="541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3.6 19. Mai 2003 Starnberg-Torn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1"/>
          <a:stretch/>
        </p:blipFill>
        <p:spPr>
          <a:xfrm>
            <a:off x="228600" y="1371600"/>
            <a:ext cx="6135840" cy="5208480"/>
          </a:xfrm>
          <a:prstGeom prst="rect">
            <a:avLst/>
          </a:prstGeom>
          <a:ln w="0">
            <a:noFill/>
          </a:ln>
        </p:spPr>
      </p:pic>
      <p:pic>
        <p:nvPicPr>
          <p:cNvPr id="324" name="" descr=""/>
          <p:cNvPicPr/>
          <p:nvPr/>
        </p:nvPicPr>
        <p:blipFill>
          <a:blip r:embed="rId2"/>
          <a:stretch/>
        </p:blipFill>
        <p:spPr>
          <a:xfrm>
            <a:off x="3124080" y="1676520"/>
            <a:ext cx="5738760" cy="459108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/>
          <p:nvPr/>
        </p:nvSpPr>
        <p:spPr>
          <a:xfrm flipH="1" flipV="1">
            <a:off x="7086240" y="5334120"/>
            <a:ext cx="76212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281160" y="1279440"/>
            <a:ext cx="83660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BMOS liefert bereits jetzt zufriedenstellende Blitzprognosen i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Nowcast- und Kurzfristberei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BMOS ist in der Lage, sowohl bereits vorhandene Blitzbeobach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tungen zu advehieren als auch Neuentwicklungen zu erfass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BMOS soll Teil eines hochauflösenden allgemeinen Nowcasting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systems wer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•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Dieses Nowcastingsystem kann durch geeignetes Postproces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selbstständig vor gefährlichen Wettererscheinungen warn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de-DE" sz="2400" spc="-1" strike="noStrike">
                <a:solidFill>
                  <a:srgbClr val="000000"/>
                </a:solidFill>
                <a:latin typeface="Times New Roman"/>
              </a:rPr>
              <a:t>bzw. entsprechende Warntexte erzeu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28240" y="228600"/>
            <a:ext cx="526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4 Zusammenfassung und Ausblick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1T06:44:30Z</dcterms:created>
  <dc:creator>Hoffmann</dc:creator>
  <dc:description/>
  <dc:language>en-US</dc:language>
  <cp:lastModifiedBy>Jan Hoffmann</cp:lastModifiedBy>
  <dcterms:modified xsi:type="dcterms:W3CDTF">2004-09-06T19:41:33Z</dcterms:modified>
  <cp:revision>20</cp:revision>
  <dc:subject/>
  <dc:title>PowerPoint-Präsentation</dc:title>
</cp:coreProperties>
</file>